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16E-8978-49EE-8E50-506D9320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F85-1196-4E2E-A564-8B8C4E08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BFE-4A2D-4AD9-A8EC-BD55FF49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13D-D126-464E-A5C6-ECB54800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950-4188-437A-B11E-9A66C7B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561-FDF6-45A1-B37D-4DACC5D7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B64-EB7C-4BDA-BA41-F53B6F5A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C16-A276-47B7-9D4F-919B50AD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689-FBBE-458B-8855-75D45B09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994-2686-4915-A989-12CB4C3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D96-4889-4194-9214-09B6375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5B0-5920-43EC-B150-295DA1E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4AB9-FB30-485D-8ED4-57D438AA3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CIZI ŞI BA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ul de Chimie,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Elena Alexandrescu, Viorica Zaharia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izii şi bazele sunt substanţe compuse anorganice sau organice implicate în multe procese naturale sau în reacţiile aplicate în laboratoarele de chimie şi în industria chimic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dicatorii acido-bazici sunt substanţe organi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e îşi schimbă structura şi, în consecinţă, culoarea, în funcţie de caracterul acid sau b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c al soluţ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oluţia apoasă diluată de acid clorhidric, concentraţia ionilor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mare, pentru că, practic, toate moleculele de acid clorhidric au ionizat la dizolvare. Acidul clorhidric este un acid tare. În aceste condiţii, mai multe molecule de turnesol şi-au schimbat structura şi culoarea roşie este mai intensă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şi alte teorii în chimie care definesc noţiunile de acid şi baz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ul 1880, Svante Arrhenius  a definit acizii ca substanţe compuse care, în soluţie apoasă, formează ioni hidrataţi de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rogen (H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(aq)) şi bazele ca substanţe compuse care eliberează în soluţie ioni metalici (Me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n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şi ioni hidroxid (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bstanţe ca HCI,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,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OH sunt acizi Arrhenius, iar substanţe ca NaOH, Ca(OH)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KOH sunt baze Arrhen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29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33520" y="1066680"/>
            <a:ext cx="784836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licaț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. Compoziţia  procentuală de masă a unui oxoacid cu M=98 este:  2,04% H, 32,653% S, 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306%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abiliţi formula moleculară a oxoacid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ecuaţiile reacţiilor de ionizare ce au loc la dizolvarea oxoacidului în ap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preciaţi tăria oxoacidului, ştiind că are constantele de aciditate :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Ka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=1,2*10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2. Metilamina (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) este o bază slabă. În soluţia apoasă de metilamină,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ai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ionii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H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C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3. Acidul iodhidric  (HI) este un acid foarte tare. În soluţia apoasă de acid iodhidric se afl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molecule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ii de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concentraţii egale cu concentraţia iniţială a acid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olecule de HI şi ionii H</a:t>
            </a:r>
            <a:r>
              <a:rPr b="0" lang="ro-RO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şi I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1596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3:1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